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0532-E9A4-489C-B04B-1EA529D96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01A2-67D1-4DC2-A23E-B59C88587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75EE-4CB8-492F-BCC5-C13C35015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03D5-F490-4293-946C-5C6615C41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B9E6-DCB5-4E8C-9601-BE5316F0F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0765-3503-40F2-ADC7-579A1937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4010-60E8-4565-B902-B6C03694E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B4B6F-5D45-40E9-9D45-01873A845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985D-D518-4DB4-B114-B5DBE79A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A1F28-1F66-4598-9355-D7FC64D87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26C0-9F10-45E7-8945-CCD97A402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2ADD-7BCF-417A-A08D-C66C0AC8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95F81-5E40-4FAE-9825-729C98D1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3F0E-5A11-4A17-B3FE-DD4F23F7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767C-B37F-4F3A-8F4E-8C5C7ED5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F663-B935-4927-AD8D-9E271D716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15B1-EF57-4E97-89DA-65DC0CB73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E958-1776-46F5-B5AC-B092FE446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E28F-D5A7-4AA3-8EB0-FA0F2CC4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8155-3DF8-4489-A1E2-928906024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5C6-3CEB-4DAE-B58C-B60E264F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531-6156-4EA6-A778-F7FE41AC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22F9-E13A-49F4-9058-488A57A3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927C-C327-4526-99CC-32844EDC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57CB-D412-4190-BECE-AEA0F53699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B8758-FB0A-40F1-BCC3-11B3BB4DE1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rst Wav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_x0010_It’s is possible that nations such as Kirkbati _x0010_may have already reached a tipping point because of the long delay involved in  reducing greenhouse gas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-- Andr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8:37:08Z</dcterms:created>
  <dc:creator>PA Department of Education</dc:creator>
  <dc:description/>
  <dc:language>en-US</dc:language>
  <cp:lastModifiedBy>PA Department of Education</cp:lastModifiedBy>
  <dcterms:modified xsi:type="dcterms:W3CDTF">2009-05-27T18:31:44Z</dcterms:modified>
  <cp:revision>3</cp:revision>
  <dc:subject/>
  <dc:title>Something  </dc:title>
</cp:coreProperties>
</file>